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E12-7249-4EE8-9A0D-73FD2756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C4D-56D5-486F-B9B6-3DC660DE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5A8-8429-4BD2-8886-84C53CF0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F78-4216-406D-A66D-1535BA76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44E-5885-471F-AE7A-C0CAD05B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3B5-B2C2-4E7C-A896-95F73926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293-AA91-4182-BC90-85261F5B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A88-5CE1-4592-9221-C6690B05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C5D-E0BF-4132-9C18-477D7C65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C05-504A-4889-978A-52B21E4B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7A9-C0CB-4E6D-B114-09866130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048-D3E5-4761-A9BE-2E7A14D4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1E37-BC99-4C6A-8809-8FD3F592E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bcPhonicsOne"/>
              </a:rPr>
              <a:t>Ozone Depl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Book Antiqua"/>
              </a:rPr>
              <a:t>Samantha Zril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Book Antiqua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Book Antiqua"/>
              </a:rPr>
              <a:t>Tiffany Cull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bcPhonicsOne"/>
              </a:rPr>
              <a:t>The end</a:t>
            </a:r>
            <a:r>
              <a:rPr b="1" lang="en-US" sz="96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We hope you enjoyed             this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honicsOne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e Encyclopedia of U.S. Economic History. Ed. Thomas Carson and Mary Bonk. Detroit: Gale Group, 199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e Encyclopedia of Science. Ed. K. Lee Lerner and Brenda Wilmoth Lerner. 4th ed. Detroit: Gale Group, 200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h Lerner. 4th ed. Detroit: Gale Group, 2008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udent Resource Center - G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Gale. Stroudsburg High School. 23 Feb.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2193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0666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What is ozone deple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Chemicals in the air that are making holes in the 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Two distinct, but related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 slow, steady decline in the total volume of ozone in earth’s strat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Both B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What is the ozone lay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Earth's atmosphere which contains very high concentrations of 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Sun’s high ultraviolet light, which is potentially damaging to life on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 an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A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All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5238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What is depleting the ozone lay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ll of the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Hair s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.Febree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Fa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Tanning b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B an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A, B, an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What’s a CF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Chlorofluorocarb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Flu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A an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All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and short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295280"/>
            <a:ext cx="815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Are CFCs stable chemicals or unst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 the CFC problem in order from 1 to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bcPhonicsOne"/>
              </a:rPr>
              <a:t>So what is the ozone layer any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zone is present in the stratosphere.  The stratosphere is 30 miles above the Earth, and at the very top it contains ozone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uns rays are absorbed by the ozone in the stratosphere and therefore do not reach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helps prevent the breakage of Deoxyibonucleic acid,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’s a bluish gas that has an acid odor. However, it is colorless and extremely poisonous.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162920" y="5388120"/>
            <a:ext cx="1981080" cy="1469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bcPhonicsOne"/>
              </a:rPr>
              <a:t>What does it do for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t prevents us from absorbing an excessive amount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ecreased ozone layer will increase rates of malaria and other diseases so it prevents a lot of the population from getting that and cata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very time 1% of the ozone layer is depleted, 2% more UV-B is able to reach the surface of the plan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o it prevents us from getting… SUNBURN! Which can turn into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skin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772400" y="1600200"/>
            <a:ext cx="87012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38812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bcPhonicsOne"/>
              </a:rPr>
              <a:t>How was/ is it being deple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 depletion is caused by reactions to chemicals in the air from factories, hairspray, and pollution from vehicl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se chemicals are commonly known as CFC’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FC’s are compounds that contain atoms of carbon, chlorine, and fluori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y are a type of stable chem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0" y="44956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bcPhonicsOne"/>
              </a:rPr>
              <a:t>What is causing the deple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 chemicals that harm the ozone take a very long time to get to the ozone layer. CFCs would remain in the stratosphere for another 100 years even if none were ever produced ag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refore, those chemicals from years ago are still contributing to ozone depletion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Rapid climate change is causing the ozone layer to heal slower then ever befor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bcPhonicsOne"/>
              </a:rPr>
              <a:t>Are we trying to slow the deple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, because even though most people know about the problem, they don’t know how much of a problem it really is, so they basically ignor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bcPhonicsOne"/>
              </a:rPr>
              <a:t>How can we solve this problem???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TOP USING CFC’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4:06:29Z</dcterms:created>
  <dc:creator>sasd</dc:creator>
  <dc:description/>
  <dc:language>en-US</dc:language>
  <cp:lastModifiedBy> </cp:lastModifiedBy>
  <dcterms:modified xsi:type="dcterms:W3CDTF">2009-03-06T03:28:39Z</dcterms:modified>
  <cp:revision>24</cp:revision>
  <dc:subject/>
  <dc:title>Ozone Depletion</dc:title>
</cp:coreProperties>
</file>